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0D89-6608-4BF5-8689-E2C19342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75F4-1211-4BBB-BB65-4F8A3E38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CEEA-0BCE-4772-94F5-28169A3C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33C4-8191-47E8-A81C-EE24B5D1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76F1-0605-4F27-A82B-0525F022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ED21-D0FD-4424-8E13-5F66ACE5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E1A5-060F-427C-B234-1E2BBEB2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56CF-CDF0-44E6-9260-D186A35E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9EA0-7A6A-4097-BE3F-DE29FC41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92E0-1BBE-4C96-9B2E-4E7E9DE3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5C6C-4D48-44FD-B94E-2417989B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901D-F5B6-4058-A163-E91760A1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14F5-1760-40EF-9AC5-0D4D814CEE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ПАСХ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08000" y="5229360"/>
            <a:ext cx="8928000" cy="162864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Устраивали катание яиц. Для этого делали на столе или на полу горку Из деревянной дощечки или картонки. Перед ней раскладывали крашеные яйца, различные подарки и игрушки. По очереди катали яйца с горки. Предмет, до которого дотрагивалось яйцо, становился выигрышем. На Пасху всегда пекли куличи и делали творожную пасх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51ac667fbeb4"/>
          <p:cNvPicPr/>
          <p:nvPr/>
        </p:nvPicPr>
        <p:blipFill>
          <a:blip r:embed="rId1"/>
          <a:stretch/>
        </p:blipFill>
        <p:spPr>
          <a:xfrm>
            <a:off x="1403280" y="189000"/>
            <a:ext cx="5545080" cy="4849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4920" y="2852640"/>
            <a:ext cx="8459640" cy="93672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808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08000" y="4221000"/>
            <a:ext cx="8928000" cy="251784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Называют пасху "царем дней", "праздником праздников" и "торжеством из торжеств". Каждую весну христиане всего мира –православные празднуют светлое Воскресение Христово. На Руси Пасха была не только самым почитаемым праздником, но и днем, когда каждый человек старался показать свои самые лучшие качества: щедрость, доброжелательность, милосердие. Считалось, что в день Пасхи необходимо было сделать 7 добрых дел или подарить 7 подар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При встрече в пасху люди приветствуют друг друга слов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"Христос воскресе! " "Воистину воскресе! 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85525335_247792svetik"/>
          <p:cNvPicPr/>
          <p:nvPr/>
        </p:nvPicPr>
        <p:blipFill>
          <a:blip r:embed="rId1"/>
          <a:stretch/>
        </p:blipFill>
        <p:spPr>
          <a:xfrm>
            <a:off x="2340000" y="333360"/>
            <a:ext cx="4464000" cy="35686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08000" y="3715920"/>
            <a:ext cx="8928000" cy="302580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Пасха – главный христианский праздник, день чудесного воскрешения Иисуса Христа. Вселенский собор христианской церкви в 325 году установил, что Пасха должна отмечаться в первое воскресенье после весеннего равноденствия и полнолуния. Это "кочующий" праздник, выпадающий в разные дни в период с 7 апреля по 8 мая. Главным событием празднества было торжественное богослужение в хра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soare-primavara"/>
          <p:cNvPicPr/>
          <p:nvPr/>
        </p:nvPicPr>
        <p:blipFill>
          <a:blip r:embed="rId1"/>
          <a:stretch/>
        </p:blipFill>
        <p:spPr>
          <a:xfrm>
            <a:off x="2195640" y="189000"/>
            <a:ext cx="4537080" cy="34034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8000" y="4149360"/>
            <a:ext cx="8928000" cy="259092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c1c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1c1c1c"/>
                </a:solidFill>
                <a:latin typeface="Arial"/>
              </a:rPr>
              <a:t>В народной традиции Пасха отмечалась как праздник обновления и возрождения жизни. Согласно традиции, каждый человек должен был встретить Пасху обновленным духовно и физически, подготовленным к ней в ходе длительного Великого по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22_Glavniii_sait_1500_big_r"/>
          <p:cNvPicPr/>
          <p:nvPr/>
        </p:nvPicPr>
        <p:blipFill>
          <a:blip r:embed="rId1"/>
          <a:stretch/>
        </p:blipFill>
        <p:spPr>
          <a:xfrm>
            <a:off x="179280" y="1052640"/>
            <a:ext cx="3343320" cy="2714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48" name="Picture 6" descr="0e2950ff3b30"/>
          <p:cNvPicPr/>
          <p:nvPr/>
        </p:nvPicPr>
        <p:blipFill>
          <a:blip r:embed="rId2"/>
          <a:stretch/>
        </p:blipFill>
        <p:spPr>
          <a:xfrm>
            <a:off x="4284720" y="1093680"/>
            <a:ext cx="3562200" cy="26719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08000" y="3716280"/>
            <a:ext cx="8928000" cy="301464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Перед Пасхой считалось необходимым навести порядок в доме и на улиц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В Пасху человек должен был отбросить все дурные, нечистые мысли, забыть зло и обиды, не греш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rcRect l="31758" t="12653" r="48335" b="40163"/>
          <a:stretch/>
        </p:blipFill>
        <p:spPr>
          <a:xfrm>
            <a:off x="324000" y="189000"/>
            <a:ext cx="2519280" cy="33591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51" name="Picture 6" descr="620df548ba2013bcbb728f91349d153f_1879558653_130275918016_800px"/>
          <p:cNvPicPr/>
          <p:nvPr/>
        </p:nvPicPr>
        <p:blipFill>
          <a:blip r:embed="rId2"/>
          <a:stretch/>
        </p:blipFill>
        <p:spPr>
          <a:xfrm>
            <a:off x="4140360" y="325440"/>
            <a:ext cx="429732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4220640"/>
            <a:ext cx="8928000" cy="248148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На Пасху было принято надевать новую или чистую праздничную одеж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Перед уходом в церковь в домах накрывали праздничные пасхальные столы, сервировали самой красивой посудой, какая была в доме. Кушанья, которые бывали на Пасху, не повторялись в другие дни. Ели их только раз в год. Начинали готовиться к Пасхе за неделю, еще в пос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1e4960914acd"/>
          <p:cNvPicPr/>
          <p:nvPr/>
        </p:nvPicPr>
        <p:blipFill>
          <a:blip r:embed="rId1"/>
          <a:stretch/>
        </p:blipFill>
        <p:spPr>
          <a:xfrm>
            <a:off x="539640" y="115920"/>
            <a:ext cx="3108600" cy="36241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54" name="Picture 6" descr="12fce5bc53d22254c3563cc6d01ae342"/>
          <p:cNvPicPr/>
          <p:nvPr/>
        </p:nvPicPr>
        <p:blipFill>
          <a:blip r:embed="rId2"/>
          <a:stretch/>
        </p:blipFill>
        <p:spPr>
          <a:xfrm>
            <a:off x="3780000" y="260280"/>
            <a:ext cx="5003640" cy="3335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8000" y="5445000"/>
            <a:ext cx="8928000" cy="128592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Невозможно представить Пасху без крашеных яиц. Полагалось красить их в Чистый четверг на страстной неделе, а куличи печь в суб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1365420885_nadruvelevcy-vstrechayut-pashu"/>
          <p:cNvPicPr/>
          <p:nvPr/>
        </p:nvPicPr>
        <p:blipFill>
          <a:blip r:embed="rId1"/>
          <a:stretch/>
        </p:blipFill>
        <p:spPr>
          <a:xfrm>
            <a:off x="179280" y="189000"/>
            <a:ext cx="4381560" cy="25527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57" name="Picture 6" descr="103dc51f1e67"/>
          <p:cNvPicPr/>
          <p:nvPr/>
        </p:nvPicPr>
        <p:blipFill>
          <a:blip r:embed="rId2"/>
          <a:stretch/>
        </p:blipFill>
        <p:spPr>
          <a:xfrm>
            <a:off x="4788000" y="836640"/>
            <a:ext cx="3887640" cy="2916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58" name="Picture 4" descr="660x446_21_b019592c5c5b4405ef95a943cda7ceb9@800x540_0xc0a8393c_11635824421370475348"/>
          <p:cNvPicPr/>
          <p:nvPr/>
        </p:nvPicPr>
        <p:blipFill>
          <a:blip r:embed="rId3"/>
          <a:stretch/>
        </p:blipFill>
        <p:spPr>
          <a:xfrm>
            <a:off x="98280" y="2741760"/>
            <a:ext cx="3910320" cy="26413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9280" y="4005000"/>
            <a:ext cx="8856720" cy="272412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c1c1c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1c1c1c"/>
                </a:solidFill>
                <a:latin typeface="Arial"/>
              </a:rPr>
              <a:t>Крашенные яйца не только подают к праздничному столу, их принято дарить друг другу всю Пасхальную неделю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0b0f9952b0357ad033249c84d6e47949"/>
          <p:cNvPicPr/>
          <p:nvPr/>
        </p:nvPicPr>
        <p:blipFill>
          <a:blip r:embed="rId1"/>
          <a:stretch/>
        </p:blipFill>
        <p:spPr>
          <a:xfrm>
            <a:off x="2411280" y="260280"/>
            <a:ext cx="4751640" cy="35672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08000" y="4508280"/>
            <a:ext cx="8928000" cy="216036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В старину на Пасху были и свои пасхальные игры. Самая распространенная " чоканье ", когда, ударяя острым или тупым концом крашеного крутого яйца старались разбить яйцо соперника. Победителем становился тот, чье яйцо оставалось цел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0c0e7bb9d17c743341a770fd5f85443a"/>
          <p:cNvPicPr/>
          <p:nvPr/>
        </p:nvPicPr>
        <p:blipFill>
          <a:blip r:embed="rId1"/>
          <a:stretch/>
        </p:blipFill>
        <p:spPr>
          <a:xfrm>
            <a:off x="108000" y="260280"/>
            <a:ext cx="4248000" cy="31892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63" name="Picture 8" descr="1244736197_1239546087_raz_045"/>
          <p:cNvPicPr/>
          <p:nvPr/>
        </p:nvPicPr>
        <p:blipFill>
          <a:blip r:embed="rId2"/>
          <a:srcRect l="0" t="0" r="29550" b="-2604"/>
          <a:stretch/>
        </p:blipFill>
        <p:spPr>
          <a:xfrm>
            <a:off x="5219640" y="333360"/>
            <a:ext cx="3672000" cy="2808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64" name="Picture 10" descr="65371"/>
          <p:cNvPicPr/>
          <p:nvPr/>
        </p:nvPicPr>
        <p:blipFill>
          <a:blip r:embed="rId3"/>
          <a:stretch/>
        </p:blipFill>
        <p:spPr>
          <a:xfrm>
            <a:off x="3203640" y="981000"/>
            <a:ext cx="3744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8T19:03:51Z</dcterms:created>
  <dc:creator>Марина</dc:creator>
  <dc:description/>
  <dc:language>en-US</dc:language>
  <cp:lastModifiedBy>Admin</cp:lastModifiedBy>
  <dcterms:modified xsi:type="dcterms:W3CDTF">2017-03-24T14:50:57Z</dcterms:modified>
  <cp:revision>18</cp:revision>
  <dc:subject/>
  <dc:title>ПАСХА</dc:title>
</cp:coreProperties>
</file>