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D2AB-8E7A-49C0-AEA8-F42FAD730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A8D8-3740-43A0-A1B0-B30406A75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AFB6-282F-41E6-9F25-8FFDB29A5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E3FF-FA0E-40A6-A7EE-9EF8A09C5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8D69-33CB-4337-B3AE-4CE4702B2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41CC-1888-4DF0-986B-F3EB6E6AF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2616-F0D0-4AF4-9ADC-AB99E890D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B190-D6FF-4647-BBB9-4387059B2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A0B5-944E-4A57-B86F-793B8D0BE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5167-9F07-450B-9D74-84748A6A9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2003-CC7E-4179-B061-48B7A529E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8938-2833-4341-B062-1E02CB3B9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C1F5F-D894-4D35-B670-D853962C4B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Arial"/>
              </a:rPr>
              <a:t>ПАСХ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08000" y="5229360"/>
            <a:ext cx="8928000" cy="1628640"/>
          </a:xfrm>
          <a:prstGeom prst="rect">
            <a:avLst/>
          </a:prstGeom>
          <a:solidFill>
            <a:srgbClr val="ffff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Arial"/>
              </a:rPr>
              <a:t>         </a:t>
            </a:r>
            <a:r>
              <a:rPr b="1" lang="ru-RU" sz="2000" spc="-1" strike="noStrike">
                <a:solidFill>
                  <a:srgbClr val="1c1c1c"/>
                </a:solidFill>
                <a:latin typeface="Arial"/>
              </a:rPr>
              <a:t>Устраивали катание яиц. Для этого делали на столе или на полу горку Из деревянной дощечки или картонки. Перед ней раскладывали крашеные яйца, различные подарки и игрушки. По очереди катали яйца с горки. Предмет, до которого дотрагивалось яйцо, становился выигрышем. На Пасху всегда пекли куличи и делали творожную пасх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51ac667fbeb4"/>
          <p:cNvPicPr/>
          <p:nvPr/>
        </p:nvPicPr>
        <p:blipFill>
          <a:blip r:embed="rId1"/>
          <a:stretch/>
        </p:blipFill>
        <p:spPr>
          <a:xfrm>
            <a:off x="1403280" y="189000"/>
            <a:ext cx="5545080" cy="48495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94920" y="2852640"/>
            <a:ext cx="8459640" cy="936720"/>
          </a:xfrm>
          <a:prstGeom prst="rect">
            <a:avLst/>
          </a:prstGeom>
          <a:solidFill>
            <a:srgbClr val="ffff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8080"/>
                </a:solidFill>
                <a:latin typeface="Arial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08000" y="4221000"/>
            <a:ext cx="8928000" cy="2517840"/>
          </a:xfrm>
          <a:prstGeom prst="rect">
            <a:avLst/>
          </a:prstGeom>
          <a:solidFill>
            <a:srgbClr val="ffff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1c1c1c"/>
                </a:solidFill>
                <a:latin typeface="Arial"/>
              </a:rPr>
              <a:t>Называют пасху "царем дней", "праздником праздников" и "торжеством из торжеств". Каждую весну христиане всего мира –православные празднуют светлое Воскресение Христово. На Руси Пасха была не только самым почитаемым праздником, но и днем, когда каждый человек старался показать свои самые лучшие качества: щедрость, доброжелательность, милосердие. Считалось, что в день Пасхи необходимо было сделать 7 добрых дел или подарить 7 подарк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1c1c1c"/>
                </a:solidFill>
                <a:latin typeface="Arial"/>
              </a:rPr>
              <a:t>При встрече в пасху люди приветствуют друг друга словам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Arial"/>
              </a:rPr>
              <a:t>"Христос воскресе! " "Воистину воскресе! 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85525335_247792svetik"/>
          <p:cNvPicPr/>
          <p:nvPr/>
        </p:nvPicPr>
        <p:blipFill>
          <a:blip r:embed="rId1"/>
          <a:stretch/>
        </p:blipFill>
        <p:spPr>
          <a:xfrm>
            <a:off x="2340000" y="333360"/>
            <a:ext cx="4464000" cy="356868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08000" y="3715920"/>
            <a:ext cx="8928000" cy="3025800"/>
          </a:xfrm>
          <a:prstGeom prst="rect">
            <a:avLst/>
          </a:prstGeom>
          <a:solidFill>
            <a:srgbClr val="ffff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c1c1c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1c1c1c"/>
                </a:solidFill>
                <a:latin typeface="Arial"/>
              </a:rPr>
              <a:t>Пасха – главный христианский праздник, день чудесного воскрешения Иисуса Христа. Вселенский собор христианской церкви в 325 году установил, что Пасха должна отмечаться в первое воскресенье после весеннего равноденствия и полнолуния. Это "кочующий" праздник, выпадающий в разные дни в период с 7 апреля по 8 мая. Главным событием празднества было торжественное богослужение в храм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soare-primavara"/>
          <p:cNvPicPr/>
          <p:nvPr/>
        </p:nvPicPr>
        <p:blipFill>
          <a:blip r:embed="rId1"/>
          <a:stretch/>
        </p:blipFill>
        <p:spPr>
          <a:xfrm>
            <a:off x="2195640" y="189000"/>
            <a:ext cx="4537080" cy="340344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08000" y="4149360"/>
            <a:ext cx="8928000" cy="2590920"/>
          </a:xfrm>
          <a:prstGeom prst="rect">
            <a:avLst/>
          </a:prstGeom>
          <a:solidFill>
            <a:srgbClr val="ffff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c1c1c"/>
                </a:solidFill>
                <a:latin typeface="Arial"/>
              </a:rPr>
              <a:t>          </a:t>
            </a:r>
            <a:r>
              <a:rPr b="1" lang="ru-RU" sz="2800" spc="-1" strike="noStrike">
                <a:solidFill>
                  <a:srgbClr val="1c1c1c"/>
                </a:solidFill>
                <a:latin typeface="Arial"/>
              </a:rPr>
              <a:t>В народной традиции Пасха отмечалась как праздник обновления и возрождения жизни. Согласно традиции, каждый человек должен был встретить Пасху обновленным духовно и физически, подготовленным к ней в ходе длительного Великого пос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22_Glavniii_sait_1500_big_r"/>
          <p:cNvPicPr/>
          <p:nvPr/>
        </p:nvPicPr>
        <p:blipFill>
          <a:blip r:embed="rId1"/>
          <a:stretch/>
        </p:blipFill>
        <p:spPr>
          <a:xfrm>
            <a:off x="179280" y="1052640"/>
            <a:ext cx="3343320" cy="27144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48" name="Picture 6" descr="0e2950ff3b30"/>
          <p:cNvPicPr/>
          <p:nvPr/>
        </p:nvPicPr>
        <p:blipFill>
          <a:blip r:embed="rId2"/>
          <a:stretch/>
        </p:blipFill>
        <p:spPr>
          <a:xfrm>
            <a:off x="4284720" y="1093680"/>
            <a:ext cx="3562200" cy="267192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08000" y="3716280"/>
            <a:ext cx="8928000" cy="3014640"/>
          </a:xfrm>
          <a:prstGeom prst="rect">
            <a:avLst/>
          </a:prstGeom>
          <a:solidFill>
            <a:srgbClr val="ffff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c1c1c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1c1c1c"/>
                </a:solidFill>
                <a:latin typeface="Arial"/>
              </a:rPr>
              <a:t>Перед Пасхой считалось необходимым навести порядок в доме и на улиц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c1c1c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1c1c1c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1c1c1c"/>
                </a:solidFill>
                <a:latin typeface="Arial"/>
              </a:rPr>
              <a:t>В Пасху человек должен был отбросить все дурные, нечистые мысли, забыть зло и обиды, не греш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rcRect l="31758" t="12653" r="48335" b="40163"/>
          <a:stretch/>
        </p:blipFill>
        <p:spPr>
          <a:xfrm>
            <a:off x="324000" y="189000"/>
            <a:ext cx="2519280" cy="33591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51" name="Picture 6" descr="620df548ba2013bcbb728f91349d153f_1879558653_130275918016_800px"/>
          <p:cNvPicPr/>
          <p:nvPr/>
        </p:nvPicPr>
        <p:blipFill>
          <a:blip r:embed="rId2"/>
          <a:stretch/>
        </p:blipFill>
        <p:spPr>
          <a:xfrm>
            <a:off x="4140360" y="325440"/>
            <a:ext cx="4297320" cy="32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4220640"/>
            <a:ext cx="8928000" cy="2481480"/>
          </a:xfrm>
          <a:prstGeom prst="rect">
            <a:avLst/>
          </a:prstGeom>
          <a:solidFill>
            <a:srgbClr val="ffff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c1c1c"/>
                </a:solidFill>
                <a:latin typeface="Arial"/>
              </a:rPr>
              <a:t>          </a:t>
            </a:r>
            <a:r>
              <a:rPr b="1" lang="ru-RU" sz="2000" spc="-1" strike="noStrike">
                <a:solidFill>
                  <a:srgbClr val="1c1c1c"/>
                </a:solidFill>
                <a:latin typeface="Arial"/>
              </a:rPr>
              <a:t>На Пасху было принято надевать новую или чистую праздничную одежд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1c1c1c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1c1c1c"/>
                </a:solidFill>
                <a:latin typeface="Arial"/>
              </a:rPr>
              <a:t>Перед уходом в церковь в домах накрывали праздничные пасхальные столы, сервировали самой красивой посудой, какая была в доме. Кушанья, которые бывали на Пасху, не повторялись в другие дни. Ели их только раз в год. Начинали готовиться к Пасхе за неделю, еще в пос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1e4960914acd"/>
          <p:cNvPicPr/>
          <p:nvPr/>
        </p:nvPicPr>
        <p:blipFill>
          <a:blip r:embed="rId1"/>
          <a:stretch/>
        </p:blipFill>
        <p:spPr>
          <a:xfrm>
            <a:off x="539640" y="115920"/>
            <a:ext cx="3108600" cy="362412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54" name="Picture 6" descr="12fce5bc53d22254c3563cc6d01ae342"/>
          <p:cNvPicPr/>
          <p:nvPr/>
        </p:nvPicPr>
        <p:blipFill>
          <a:blip r:embed="rId2"/>
          <a:stretch/>
        </p:blipFill>
        <p:spPr>
          <a:xfrm>
            <a:off x="3780000" y="260280"/>
            <a:ext cx="5003640" cy="33354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08000" y="5445000"/>
            <a:ext cx="8928000" cy="1285920"/>
          </a:xfrm>
          <a:prstGeom prst="rect">
            <a:avLst/>
          </a:prstGeom>
          <a:solidFill>
            <a:srgbClr val="ffff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1c1c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1c1c1c"/>
                </a:solidFill>
                <a:latin typeface="Arial"/>
              </a:rPr>
              <a:t>Невозможно представить Пасху без крашеных яиц. Полагалось красить их в Чистый четверг на страстной неделе, а куличи печь в суббо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1365420885_nadruvelevcy-vstrechayut-pashu"/>
          <p:cNvPicPr/>
          <p:nvPr/>
        </p:nvPicPr>
        <p:blipFill>
          <a:blip r:embed="rId1"/>
          <a:stretch/>
        </p:blipFill>
        <p:spPr>
          <a:xfrm>
            <a:off x="179280" y="189000"/>
            <a:ext cx="4381560" cy="25527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57" name="Picture 6" descr="103dc51f1e67"/>
          <p:cNvPicPr/>
          <p:nvPr/>
        </p:nvPicPr>
        <p:blipFill>
          <a:blip r:embed="rId2"/>
          <a:stretch/>
        </p:blipFill>
        <p:spPr>
          <a:xfrm>
            <a:off x="4788000" y="836640"/>
            <a:ext cx="3887640" cy="29163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58" name="Picture 4" descr="660x446_21_b019592c5c5b4405ef95a943cda7ceb9@800x540_0xc0a8393c_11635824421370475348"/>
          <p:cNvPicPr/>
          <p:nvPr/>
        </p:nvPicPr>
        <p:blipFill>
          <a:blip r:embed="rId3"/>
          <a:stretch/>
        </p:blipFill>
        <p:spPr>
          <a:xfrm>
            <a:off x="98280" y="2741760"/>
            <a:ext cx="3910320" cy="264132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79280" y="4005000"/>
            <a:ext cx="8856720" cy="2724120"/>
          </a:xfrm>
          <a:prstGeom prst="rect">
            <a:avLst/>
          </a:prstGeom>
          <a:solidFill>
            <a:srgbClr val="ffff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c1c1c"/>
                </a:solidFill>
                <a:latin typeface="Arial"/>
              </a:rPr>
              <a:t>         </a:t>
            </a:r>
            <a:r>
              <a:rPr b="1" lang="ru-RU" sz="3600" spc="-1" strike="noStrike">
                <a:solidFill>
                  <a:srgbClr val="1c1c1c"/>
                </a:solidFill>
                <a:latin typeface="Arial"/>
              </a:rPr>
              <a:t>Крашенные яйца не только подают к праздничному столу, их принято дарить друг другу всю Пасхальную неделю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0b0f9952b0357ad033249c84d6e47949"/>
          <p:cNvPicPr/>
          <p:nvPr/>
        </p:nvPicPr>
        <p:blipFill>
          <a:blip r:embed="rId1"/>
          <a:stretch/>
        </p:blipFill>
        <p:spPr>
          <a:xfrm>
            <a:off x="2411280" y="260280"/>
            <a:ext cx="4751640" cy="356724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08000" y="4508280"/>
            <a:ext cx="8928000" cy="2160360"/>
          </a:xfrm>
          <a:prstGeom prst="rect">
            <a:avLst/>
          </a:prstGeom>
          <a:solidFill>
            <a:srgbClr val="ffff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c1c1c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1c1c1c"/>
                </a:solidFill>
                <a:latin typeface="Arial"/>
              </a:rPr>
              <a:t>В старину на Пасху были и свои пасхальные игры. Самая распространенная " чоканье ", когда, ударяя острым или тупым концом крашеного крутого яйца старались разбить яйцо соперника. Победителем становился тот, чье яйцо оставалось цел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0c0e7bb9d17c743341a770fd5f85443a"/>
          <p:cNvPicPr/>
          <p:nvPr/>
        </p:nvPicPr>
        <p:blipFill>
          <a:blip r:embed="rId1"/>
          <a:stretch/>
        </p:blipFill>
        <p:spPr>
          <a:xfrm>
            <a:off x="108000" y="260280"/>
            <a:ext cx="4248000" cy="318924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63" name="Picture 8" descr="1244736197_1239546087_raz_045"/>
          <p:cNvPicPr/>
          <p:nvPr/>
        </p:nvPicPr>
        <p:blipFill>
          <a:blip r:embed="rId2"/>
          <a:srcRect l="0" t="0" r="29550" b="-2604"/>
          <a:stretch/>
        </p:blipFill>
        <p:spPr>
          <a:xfrm>
            <a:off x="5219640" y="333360"/>
            <a:ext cx="3672000" cy="28083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64" name="Picture 10" descr="65371"/>
          <p:cNvPicPr/>
          <p:nvPr/>
        </p:nvPicPr>
        <p:blipFill>
          <a:blip r:embed="rId3"/>
          <a:stretch/>
        </p:blipFill>
        <p:spPr>
          <a:xfrm>
            <a:off x="3203640" y="981000"/>
            <a:ext cx="374472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8T19:03:51Z</dcterms:created>
  <dc:creator>Марина</dc:creator>
  <dc:description/>
  <dc:language>en-US</dc:language>
  <cp:lastModifiedBy>Admin</cp:lastModifiedBy>
  <dcterms:modified xsi:type="dcterms:W3CDTF">2017-03-24T14:50:57Z</dcterms:modified>
  <cp:revision>18</cp:revision>
  <dc:subject/>
  <dc:title>ПАСХА</dc:title>
</cp:coreProperties>
</file>